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33426-A2EC-45E9-A613-CD59A1CC4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A6090-13CE-4976-BAB5-C553654E9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2916D-24E4-4825-BA90-155BD991E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4B706-16BB-4013-AAE8-290AC4612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440B9-34F1-4B80-BCAA-EAA828C08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25383-6118-49D8-BC8A-48FDC8BAD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B08C4-39D7-4598-9438-4F463D07E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C2E46-02FA-4964-97AF-7466AFC5C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FC168-59A8-459C-B945-651BA2ED1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CF7E9-4297-46EE-9D8C-A421E9821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60283-3220-4B7B-8495-8AA3FECBA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18303-3889-4668-A7F8-0FE81D1D8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2040-5B77-405F-A4CE-B3C35F98B2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26920" y="189000"/>
            <a:ext cx="8066160" cy="1682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RROTOA,ODOLA E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MALKOAK.HERIOTZATI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826920" y="260280"/>
            <a:ext cx="727416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3" name=""/>
          <p:cNvSpPr/>
          <p:nvPr/>
        </p:nvSpPr>
        <p:spPr>
          <a:xfrm>
            <a:off x="539640" y="3781800"/>
            <a:ext cx="835200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99cc00"/>
                </a:solidFill>
                <a:latin typeface="Showcard Gothic"/>
              </a:rPr>
              <a:t>Espainiako eskuindarrek ez zutela onartu ezker alderdien Fronte Popularrak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ik015111zz</cp:lastModifiedBy>
  <dcterms:modified xsi:type="dcterms:W3CDTF">2012-05-10T13:20:02Z</dcterms:modified>
  <cp:revision>2</cp:revision>
  <dc:subject/>
  <dc:title>Diapositiva 1</dc:title>
</cp:coreProperties>
</file>